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5F8-C545-4102-8D80-232BF93A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082-E06B-4A44-B908-BD5400BE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815-44E5-4E4C-9F34-46A6BBA8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057-2C48-40D3-9124-AB92E967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6A66-86C6-4C9F-A8A6-CB60ACAB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1FF0-5C8D-4C5E-BAC0-C747E7B0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24C7-D6E6-4F6E-BE74-53CD7FAB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0A51-4F97-49D8-A888-14C1D933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F20C-C948-448A-AC5A-65FE281D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6188-BFF8-4259-B643-E69952C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CAF9-EF5F-40B8-96EF-668B860D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F45-517D-4875-B16A-813F3F3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B7A-6BF4-4A3A-9E94-B32866D5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0EC2-AE46-45D2-84B1-EE4A473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AD59-2066-417C-8193-23C003BA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0D76-7DAA-4A25-AC73-BF08C189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626E-7C82-43F2-8104-89FEDFB2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596-F331-4272-9B86-B295CC6B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6FF-44C0-4A69-A84D-EB0746F0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12C-EBD9-4FB0-8A3A-420EE8D0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41E-2408-46DE-A73C-1250245F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9D3-C0D9-4210-A933-4AF81BE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612-2504-42C1-9388-4FA1A15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58D-80FC-4BBF-9391-9187C47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ef1c0">
                  <a:alpha val="13333"/>
                </a:srgbClr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7EC1-1465-402B-839C-05E539B3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0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3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1c1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6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5F15-10F9-40FE-B780-9A2C03F811FD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ata Directo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0224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a Access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genome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age scraping and bulk file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nternet search &amp; retrieval of all genome objects distributed among many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Simple, flexible client program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Efficient for high volume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289160"/>
            <a:ext cx="85345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xisting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inding distribut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fficient for mill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jects, by the gigabyte and tera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d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cross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llabora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ing and new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bioinformatics data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ational dbs, object and XML dbs, SRS, Entrez, Ace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imple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putable use of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common 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escrib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Replicate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bjects among bioinformatics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Peer-to-peer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llabora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uthentication 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 and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in progress for 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304920" y="115236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iubio.bio.indiana.edu/biogrid/directori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28:33Z</dcterms:created>
  <dc:creator>don gilbert</dc:creator>
  <dc:description/>
  <dc:language>en-US</dc:language>
  <cp:lastModifiedBy>don gilbert</cp:lastModifiedBy>
  <dcterms:modified xsi:type="dcterms:W3CDTF">2003-05-04T18:56:14Z</dcterms:modified>
  <cp:revision>6</cp:revision>
  <dc:subject/>
  <dc:title>Genome Data Directories</dc:title>
</cp:coreProperties>
</file>